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1813-33CF-469D-B725-FD2F8638C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5A7-5E69-45D2-AD54-B75FDDFE5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78F-9CE4-494F-91B9-4F54DFB322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030-7BB5-43C4-8970-4C5678E1ED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1FC-2DB7-46DE-ABF2-90D4EFA28D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CA6-C435-43A6-BF5F-1347A403B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F40-B0FF-476A-BF5B-2F75DC633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7D2A-9B5B-43AB-B5DA-98697396E9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57D-4EE8-4514-A58F-48D61EC21C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B58-5AAB-4F81-9898-9D62B67C99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21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3" name="AutoShape 22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Group 25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7" name="AutoShape 26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Group 29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11" name="AutoShape 30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32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33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15" name="AutoShape 34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35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36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AutoShape 37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38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39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40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41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Line 42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Line 43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Line 44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Line 45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Line 46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Line 47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51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Text Box 52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Text Box 53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Text Box 54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" name="Picture 58" descr="tit_millonario"/>
          <p:cNvPicPr/>
          <p:nvPr/>
        </p:nvPicPr>
        <p:blipFill>
          <a:blip r:embed="rId2"/>
          <a:stretch/>
        </p:blipFill>
        <p:spPr>
          <a:xfrm>
            <a:off x="717480" y="612720"/>
            <a:ext cx="7693200" cy="19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61840" y="5614920"/>
            <a:ext cx="322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que pelar las pata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95320" y="462276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ngo lavar el co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516640" y="4645080"/>
            <a:ext cx="325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arreglo el arm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84880" y="5415120"/>
            <a:ext cx="343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Tengo que preparar la com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652320" y="329580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I have to peel the potato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87400" y="46260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521320" y="46162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523120" y="55404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879840" y="55324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52320" y="3295800"/>
            <a:ext cx="64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I eat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754200" y="330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88120" y="46260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s a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62200" y="554040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o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437080" y="5532480"/>
            <a:ext cx="32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s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468040" y="46339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ve en Nort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52320" y="32958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he lives in Northam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892440" y="4664160"/>
            <a:ext cx="327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A mi pueblo hay tien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860400" y="554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521320" y="554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526360" y="4684680"/>
            <a:ext cx="349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n mi ciudad hay un estad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61840" y="5548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566320" y="55324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n mi pueblo hay Correo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839520" y="5610240"/>
            <a:ext cx="347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En mi aldea hay una comisar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52320" y="329580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In my town there is a post off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857520" y="55911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la hubi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18440" y="55911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la hubi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901440" y="4675320"/>
            <a:ext cx="3180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la hubera un estad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527800" y="4689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 hubera un est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52320" y="329580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only there was a sta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83440" y="467676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a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521320" y="559116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522040" y="46735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 en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851040" y="5504040"/>
            <a:ext cx="33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52320" y="3295800"/>
            <a:ext cx="6504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It’s in the countryside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62560" y="4649760"/>
            <a:ext cx="275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Mi barrio es antigu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63720" y="5565600"/>
            <a:ext cx="251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Mi barrio es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f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553720" y="4633920"/>
            <a:ext cx="229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Mi barrio es f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893880" y="5504040"/>
            <a:ext cx="338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Mi barrio es boni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52320" y="3295800"/>
            <a:ext cx="76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ómo se dice “My neighbourhood is ugly” en españ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889560" y="4700520"/>
            <a:ext cx="286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Normalmente me lav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56440" y="559116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acues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19880" y="468144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duch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518080" y="55832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mente me afei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52320" y="3295800"/>
            <a:ext cx="57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¿Normally I go to bed at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806400" y="474012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 mi ciudad hay una bibli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513040" y="4716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 mi ciudad hay un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346720" y="557676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n mi ciudad hay una libre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878400" y="5607000"/>
            <a:ext cx="33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En mi ciudad hay un cast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7227720" y="6342120"/>
            <a:ext cx="1233720" cy="515880"/>
          </a:xfrm>
          <a:custGeom>
            <a:avLst/>
            <a:gdLst>
              <a:gd name="textAreaLeft" fmla="*/ 33120 w 1233720"/>
              <a:gd name="textAreaRight" fmla="*/ 1200600 w 1233720"/>
              <a:gd name="textAreaTop" fmla="*/ 33120 h 515880"/>
              <a:gd name="textAreaBottom" fmla="*/ 482760 h 515880"/>
            </a:gdLst>
            <a:ahLst/>
            <a:rect l="textAreaLeft" t="textAreaTop" r="textAreaRight" b="textAreaBottom"/>
            <a:pathLst>
              <a:path w="51635" h="21600">
                <a:moveTo>
                  <a:pt x="0" y="0"/>
                </a:moveTo>
                <a:lnTo>
                  <a:pt x="51635" y="0"/>
                </a:lnTo>
                <a:lnTo>
                  <a:pt x="51635" y="21600"/>
                </a:lnTo>
                <a:lnTo>
                  <a:pt x="0" y="21600"/>
                </a:lnTo>
                <a:close/>
              </a:path>
              <a:path fill="lightenLess" w="51635" h="21600">
                <a:moveTo>
                  <a:pt x="0" y="0"/>
                </a:moveTo>
                <a:lnTo>
                  <a:pt x="51635" y="0"/>
                </a:lnTo>
                <a:lnTo>
                  <a:pt x="50235" y="1400"/>
                </a:lnTo>
                <a:lnTo>
                  <a:pt x="1400" y="1400"/>
                </a:lnTo>
                <a:close/>
              </a:path>
              <a:path fill="darken" w="51635" h="21600">
                <a:moveTo>
                  <a:pt x="51635" y="0"/>
                </a:moveTo>
                <a:lnTo>
                  <a:pt x="51635" y="21600"/>
                </a:lnTo>
                <a:lnTo>
                  <a:pt x="50235" y="20200"/>
                </a:lnTo>
                <a:lnTo>
                  <a:pt x="50235" y="1400"/>
                </a:lnTo>
                <a:close/>
              </a:path>
              <a:path fill="darkenLess" w="51635" h="21600">
                <a:moveTo>
                  <a:pt x="5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5" y="20200"/>
                </a:lnTo>
                <a:close/>
              </a:path>
              <a:path fill="lighten" w="5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635" h="21600">
                <a:moveTo>
                  <a:pt x="18811" y="10800"/>
                </a:moveTo>
                <a:lnTo>
                  <a:pt x="32824" y="3794"/>
                </a:lnTo>
                <a:lnTo>
                  <a:pt x="3282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95160" y="317988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my city there is a booksh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Roger Beck</dc:creator>
  <dc:description/>
  <dc:language>en-US</dc:language>
  <cp:lastModifiedBy>Chris</cp:lastModifiedBy>
  <dcterms:modified xsi:type="dcterms:W3CDTF">2009-01-10T09:53:59Z</dcterms:modified>
  <cp:revision>90</cp:revision>
  <dc:subject/>
  <dc:title>No Slide Title</dc:title>
</cp:coreProperties>
</file>